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ipdn102.wav" ContentType="audio/x-wav"/>
  <Override PartName="/ppt/media/zapbig0g.wav" ContentType="audio/x-wav"/>
  <Override PartName="/ppt/media/camera.wav" ContentType="audio/x-wav"/>
  <Override PartName="/ppt/media/shiphorn.wav" ContentType="audio/x-wav"/>
  <Override PartName="/ppt/media/bserie06.wav" ContentType="audio/x-wav"/>
  <Override PartName="/ppt/media/jetflyby2.wav" ContentType="audio/x-wav"/>
  <Override PartName="/ppt/media/highchime.wav" ContentType="audio/x-wav"/>
  <Override PartName="/ppt/media/caralarmoff.wav" ContentType="audio/x-wav"/>
  <Override PartName="/ppt/media/lzipup01.wav" ContentType="audio/x-wav"/>
  <Override PartName="/ppt/media/glass.wav" ContentType="audio/x-wav"/>
  <Override PartName="/ppt/media/zipup20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0C9D-65D2-49C1-8ED8-CD5C1738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B3B-F9A5-4C7D-B234-7A35E268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2A4-48C7-4B67-9CCD-9746C1FD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55BB-CA4F-42E4-B9CA-E49C2A59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1531-0D1B-47CE-A148-4E454FA2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8CA0-D58B-4E94-B090-1C95309B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0C05-C423-46EB-808E-05EC5A75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8634-E66D-48D9-B859-EB19BEE9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137D-8C71-431F-8940-9490852F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453F-A012-473D-84DA-2D729270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C65B-29D9-4477-994D-BA07877C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39F5-B538-449B-B11A-32399EB7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A538-097B-4B9F-A132-B91AEE9AB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bserie06.wav"/><Relationship Id="rId3" Type="http://schemas.openxmlformats.org/officeDocument/2006/relationships/audio" Target="../media/highchime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caralarmoff.wav"/><Relationship Id="rId9" Type="http://schemas.openxmlformats.org/officeDocument/2006/relationships/audio" Target="../media/caralarmoff.wav"/><Relationship Id="rId10" Type="http://schemas.openxmlformats.org/officeDocument/2006/relationships/audio" Target="../media/caralarmoff.wav"/><Relationship Id="rId11" Type="http://schemas.openxmlformats.org/officeDocument/2006/relationships/audio" Target="../media/caralarmoff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glass.wav"/><Relationship Id="rId9" Type="http://schemas.openxmlformats.org/officeDocument/2006/relationships/audio" Target="../media/bserie06.wav"/><Relationship Id="rId10" Type="http://schemas.openxmlformats.org/officeDocument/2006/relationships/audio" Target="../media/caralarmoff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glass.wav"/><Relationship Id="rId14" Type="http://schemas.openxmlformats.org/officeDocument/2006/relationships/audio" Target="../media/bserie06.wav"/><Relationship Id="rId15" Type="http://schemas.openxmlformats.org/officeDocument/2006/relationships/audio" Target="../media/caralarmoff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audio" Target="../media/caralarmoff.wav"/><Relationship Id="rId3" Type="http://schemas.openxmlformats.org/officeDocument/2006/relationships/audio" Target="../media/glass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zipup202.wav"/><Relationship Id="rId11" Type="http://schemas.openxmlformats.org/officeDocument/2006/relationships/audio" Target="../media/zipup202.wav"/><Relationship Id="rId12" Type="http://schemas.openxmlformats.org/officeDocument/2006/relationships/audio" Target="../media/zipup202.wav"/><Relationship Id="rId13" Type="http://schemas.openxmlformats.org/officeDocument/2006/relationships/audio" Target="../media/zipup202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caralarmoff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caralarmoff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shiphorn.wav"/><Relationship Id="rId15" Type="http://schemas.openxmlformats.org/officeDocument/2006/relationships/audio" Target="../media/shiphorn.wav"/><Relationship Id="rId16" Type="http://schemas.openxmlformats.org/officeDocument/2006/relationships/audio" Target="../media/shiphorn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caralarmoff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shiphorn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caralarmoff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shiphorn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12760" y="1397160"/>
          <a:ext cx="8744040" cy="4140000"/>
        </p:xfrm>
        <a:graphic>
          <a:graphicData uri="http://schemas.openxmlformats.org/drawingml/2006/table">
            <a:tbl>
              <a:tblPr/>
              <a:tblGrid>
                <a:gridCol w="2789280"/>
                <a:gridCol w="2971800"/>
                <a:gridCol w="2982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nomi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or more ter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1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1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1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1488960" y="72540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hods of Facto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3960" y="193680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1920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21360" y="193500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520" y="2440080"/>
            <a:ext cx="279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05280" y="2482920"/>
            <a:ext cx="298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ect Square Tri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344484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Binomials (Shortcu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14640" y="4481640"/>
            <a:ext cx="291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Binomials   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66040" y="2500200"/>
            <a:ext cx="17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82520" y="19461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G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93840" y="193032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G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19920" y="194472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G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66040" y="2516040"/>
            <a:ext cx="17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Grou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28760" y="2190600"/>
                <a:ext cx="33541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4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ing the Greatest Common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670040" y="2981160"/>
                <a:ext cx="25192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68120" y="1163520"/>
            <a:ext cx="897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greatest common factor and factor it out of the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880920" y="3043080"/>
                <a:ext cx="89712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959120" y="2970360"/>
                <a:ext cx="11206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908600" y="2185920"/>
                <a:ext cx="31608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71600" y="4235400"/>
                <a:ext cx="2681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870280" y="3081240"/>
                <a:ext cx="1065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875200" y="2905200"/>
                <a:ext cx="251964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975200" y="2921040"/>
                <a:ext cx="1120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270480" y="2917800"/>
                <a:ext cx="78444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058160" y="2992320"/>
                <a:ext cx="10094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457280" y="4994280"/>
                <a:ext cx="25192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063800" y="5113440"/>
                <a:ext cx="5047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808280" y="4978440"/>
                <a:ext cx="7840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470320" y="5083200"/>
                <a:ext cx="1288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138320" y="1749600"/>
                <a:ext cx="30668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281320" y="2540160"/>
                <a:ext cx="25192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expression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465200" y="2602080"/>
                <a:ext cx="9525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709720" y="2529000"/>
                <a:ext cx="8398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462480" y="2629080"/>
                <a:ext cx="1009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831960" y="1812960"/>
                <a:ext cx="41688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017800" y="2644920"/>
                <a:ext cx="35272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expression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174680" y="2616120"/>
                <a:ext cx="9525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503440" y="2598840"/>
                <a:ext cx="671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060720" y="2689200"/>
                <a:ext cx="12333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265640" y="2685960"/>
                <a:ext cx="8967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093680" y="1812960"/>
                <a:ext cx="3976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139840" y="2616120"/>
                <a:ext cx="352764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expression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457280" y="2587680"/>
                <a:ext cx="7844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70040" y="2570040"/>
                <a:ext cx="7826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127320" y="2660760"/>
                <a:ext cx="13464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303800" y="2657520"/>
                <a:ext cx="1065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33280" y="1133640"/>
            <a:ext cx="89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the polynomials horizontally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65280" y="1738440"/>
                <a:ext cx="38541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all Multiplying Polynomials Horizont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60320" y="3546360"/>
                <a:ext cx="10447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90560" y="3656160"/>
                <a:ext cx="16336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513240" y="3579840"/>
                <a:ext cx="12538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803840" y="3679920"/>
                <a:ext cx="9205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703760" y="4767120"/>
                <a:ext cx="9064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000240" y="4714920"/>
                <a:ext cx="16081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808280" y="4591080"/>
                <a:ext cx="1234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82640" y="4556160"/>
                <a:ext cx="10285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20640" y="2724120"/>
                <a:ext cx="257184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187800" y="2746440"/>
                <a:ext cx="25336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912960" y="1779480"/>
                <a:ext cx="46479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by Grou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352520" y="2876400"/>
                <a:ext cx="21844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expression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77800" y="2836800"/>
                <a:ext cx="8413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695600" y="3112920"/>
                <a:ext cx="61596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289240" y="2965320"/>
                <a:ext cx="10094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95520" y="3949560"/>
                <a:ext cx="218592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747960" y="3962520"/>
                <a:ext cx="19065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1525680" y="2590920"/>
            <a:ext cx="196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89280" y="2590920"/>
            <a:ext cx="1797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05400" y="2908440"/>
                <a:ext cx="21844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052880" y="2992320"/>
                <a:ext cx="560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624560" y="3159000"/>
                <a:ext cx="1063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595840" y="2967120"/>
                <a:ext cx="1009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517920" y="3251160"/>
                <a:ext cx="56052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648320" y="3098880"/>
                <a:ext cx="6174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594400" y="3083040"/>
                <a:ext cx="6174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855720" y="1812960"/>
                <a:ext cx="47926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by Grou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expression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352520" y="2876400"/>
                <a:ext cx="21844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52320" y="2908440"/>
                <a:ext cx="78444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722600" y="3168720"/>
                <a:ext cx="5601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262240" y="2994120"/>
                <a:ext cx="10652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650960" y="3949560"/>
                <a:ext cx="20750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747960" y="3962520"/>
                <a:ext cx="19065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1525680" y="2590920"/>
            <a:ext cx="196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89280" y="2590920"/>
            <a:ext cx="1797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05400" y="2908440"/>
                <a:ext cx="21844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051440" y="3027240"/>
                <a:ext cx="5029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875120" y="315432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400720" y="3008160"/>
                <a:ext cx="1065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490920" y="3111480"/>
                <a:ext cx="615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363680" y="1812960"/>
                <a:ext cx="3929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by Grou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expression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352520" y="2876400"/>
                <a:ext cx="21844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69960" y="2908440"/>
                <a:ext cx="8413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708200" y="3022560"/>
                <a:ext cx="6159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346480" y="2994120"/>
                <a:ext cx="8967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677960" y="3949560"/>
                <a:ext cx="20192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803760" y="3962520"/>
                <a:ext cx="17938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525680" y="2590920"/>
            <a:ext cx="196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89280" y="2590920"/>
            <a:ext cx="1797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05400" y="2908440"/>
                <a:ext cx="21844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183200" y="2995560"/>
                <a:ext cx="3902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848120" y="3040200"/>
                <a:ext cx="6159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484960" y="3008160"/>
                <a:ext cx="8967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490920" y="3111480"/>
                <a:ext cx="615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2-07T14:34:42Z</dcterms:modified>
  <cp:revision>24</cp:revision>
  <dc:subject/>
  <dc:title>Slide 1</dc:title>
</cp:coreProperties>
</file>